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5E54-EF20-4424-A364-6E06AB989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B678-543F-4B25-B766-20FF48B67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7385-9007-4435-9EB5-F204BB48B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2EA7-6E1A-427F-8C6D-7B67FA1A1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CE06-FD1C-49FD-9C13-2D95686B6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F921-EEFA-4FB7-9875-DFAB5C9F3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24F3-254D-4F59-8FFF-7DD388FBE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3D25-364A-4352-8055-3F8F3DCC9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0224-EBA2-46BD-940B-408B0697C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1963-4C79-4412-B043-B0D2E677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E79B-82F5-461E-B918-AAAB3A7B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A228-E8AF-4A09-A6D2-D9D64B5B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9DF06-2E2C-4B1A-8BAE-9F04F3D7E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84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323035C2-2033-4300-A0D7-34B9434216C8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240" y="236700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2060"/>
                </a:solidFill>
                <a:latin typeface="Arial"/>
              </a:rPr>
              <a:t>Process of screening: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Referral to medical health authorit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f public health official decision is to ref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transport to medical facility and notify public health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he traveler referred on travel restriction lis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Exit screening process should be accompanied by an extensive public health communication campaign to educate on the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creening for EVD at point of E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413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Upon arrival from EVD affected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rivals from EVD affected countries to provide contact information and physical addre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emperature screening of travelers from EVD affected countries ( optional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officials to provide information on EVD and Emergency contact numbers and advise on self- monitoring for signs or symptoms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3. Tools used for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creening 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nfra-red thermo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h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sca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OPs and flowcha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572000" y="2071800"/>
            <a:ext cx="4361040" cy="268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8000" y="14130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Others supplies: 9 PPE full sets at each PoE Medical equipment to survey c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3 Infrared Hand held Thermometers, 1 Scanner, 2 Observation ro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2 Health facilities and supplies for safe isolation and observation of suspect cases if possible separation room, if not, a separated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Depending on the geographical location, 1 Ambulance at P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4. Facilities, Equipment an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Key mess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1484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should be no general ban on international travel or trade to and from the affected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States should provide travellers to Ebola affected and at-risk areas with relevant information on ri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es should be prepared to detect, investigate, and manage Ebola cases and have the capacity to manage travelers originating from known Ebola-infected areas who arrive at PoE with unexplained febrile ill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The general public should be provided with accurate and relevant information on the Ebola outbreak and measures to reduce the risk of expo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78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References and additional guidelin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52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screening Ebola Guidance Package- WHO, Sept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vel and transport risk assessment: Interim guidance for public health authorities and the transport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Interim Guidance for Ebola Event Management at Points of Entry, Sept 20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General objecti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844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s presentation describes key elements for conducting screening of travellers for EVD at points of e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Learning objectiv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700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purpose of screening travelers for EVD at Points of Entry (Po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2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processes required for screening for EVD at P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3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tools used for screening at the points of e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facilities, SOPs, equipment, and supplies needed and at the points of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1: Purpose of screening for EVD at P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y person with an illness consistent with (Ebola) should not be allowed to travel unless the travel is part of an appropriate medical evacu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r Margaret Chan, WHO Director-General,8 Aug 2014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urpose of screening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Public Health Emergency (PHE) plans and SOPS should be in place at designated Points of Entry (PoEs). The aim i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early detection of potentially infected persons, isolate and mang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 WHO recommendations related to control and prevention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vent the international spread of the disease while allowing PoE authorities to avoid unnecessary restrictions and del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otential points of public health hazard  detection &amp; 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8524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507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2: 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4760" y="1236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with Ebola transmission should conduct exit screening  for all persons at international airports, seaports and major land crossings for unexplained febrile illness consistent with potential Ebola in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creening to be at the first security check before check in counter for air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Minimum requirement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emperature measurement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febrile, An assessment of the risk that fever is caused by E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rimary screening to identify travelers for exposure risk and signs of illnes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ravelers requested to fill in the travel health questionnaire to detect exposur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screening of all trave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If a traveler has fever, or exposure risk he/she should for secondary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econdary screening to further assess the risk of exposure/ infection of travelers  by trained public health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identified with suspected EVD infections /exposure are evaluated for signs and symptoms by trained public health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health staff will conduct a public health interview  more in-depth questionnaire and repeat temperature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Based on the secondary screening, public health officer may allow the travel or refer the traveler to public health or medical author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31:07Z</dcterms:modified>
  <cp:revision>334</cp:revision>
  <dc:subject/>
  <dc:title>DPC Training and Technical Update</dc:title>
</cp:coreProperties>
</file>